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5D5D-7181-41CF-9B82-5AEF416C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C0BD-D605-45D2-9920-53553E29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459B-4028-4DD9-A0F3-57AF29F0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962-76B4-410E-ACA9-DCFA2D53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5332-F07C-4B44-B319-32321F4E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5BEB-022F-4E30-9FC5-D811487E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33DD-D11A-45E2-98D0-77AAD847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3E80-2C6E-40F0-B471-1EF4F7E7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1651-2961-4BBA-8D7F-4E6F2A11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463A-0DD1-4454-B2D8-6A691089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7C96-44FD-46AD-BE28-09EF2D76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C32-257C-4849-80D5-83E17199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A4C4-46ED-4241-9C56-474C5976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50DC-78CD-4554-9A17-7B4BDAA6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6C26-D831-45B5-B5FD-2887DD88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D52E-F801-4B97-95BF-4CB67EBF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5128-FAC6-4345-80BE-2C0994B2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AA0-7B18-4CD8-B1AB-AE9C6747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4753-8006-4C25-B9C6-E8D956BA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8DA-C719-4415-95DC-8DCA014F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8294-3D68-4F69-BB8B-929C099C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19B3-B52A-4FD9-97AB-1CBC9829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BA5-1A0C-4696-BC61-2588D812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051E-1778-40FE-B8D6-607C0FDF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B659-097E-4537-92CD-87831270F3D0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Z:\JAVNA UPRAVA 2010\Si CGP\CGP_prirocnik_WEB\OUT\05 Medijsko promocijski elementi\11 PPT predstavitev\untitled folder\ozadje-01.png"/>
          <p:cNvPicPr/>
          <p:nvPr/>
        </p:nvPicPr>
        <p:blipFill>
          <a:blip r:embed="rId3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961920" y="755640"/>
            <a:ext cx="2779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GOSPODARSKI RAZVOJ IN TEHNOLOGIJ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grb moder za 10 pt.wmf"/>
          <p:cNvPicPr/>
          <p:nvPr/>
        </p:nvPicPr>
        <p:blipFill>
          <a:blip r:embed="rId4"/>
          <a:stretch/>
        </p:blipFill>
        <p:spPr>
          <a:xfrm>
            <a:off x="639720" y="760320"/>
            <a:ext cx="166680" cy="222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971640" y="6780240"/>
            <a:ext cx="14954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780240"/>
            <a:ext cx="13320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0176-E176-47D4-A86B-2310FCCF6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grada številke diapozitiva 2"/>
          <p:cNvSpPr/>
          <p:nvPr/>
        </p:nvSpPr>
        <p:spPr>
          <a:xfrm>
            <a:off x="6553080" y="6780240"/>
            <a:ext cx="13320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1F85-5394-496E-B4E0-FB28EB078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7326360"/>
          </a:xfrm>
          <a:prstGeom prst="rect">
            <a:avLst/>
          </a:prstGeom>
          <a:ln w="0">
            <a:noFill/>
          </a:ln>
        </p:spPr>
      </p:pic>
      <p:sp>
        <p:nvSpPr>
          <p:cNvPr id="87" name="Pravokotnik 9"/>
          <p:cNvSpPr/>
          <p:nvPr/>
        </p:nvSpPr>
        <p:spPr>
          <a:xfrm>
            <a:off x="1143000" y="2943360"/>
            <a:ext cx="65008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Horizontalni ukrepi v okviru kohezijske politike (tehnična pomoč)</a:t>
            </a:r>
            <a:br>
              <a:rPr sz="4000"/>
            </a:br>
            <a:br>
              <a:rPr sz="4000"/>
            </a:b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maj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Slika 5" descr="logo_nova vladna služba_SLO"/>
          <p:cNvPicPr/>
          <p:nvPr/>
        </p:nvPicPr>
        <p:blipFill>
          <a:blip r:embed="rId2"/>
          <a:stretch/>
        </p:blipFill>
        <p:spPr>
          <a:xfrm>
            <a:off x="433440" y="849240"/>
            <a:ext cx="37782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928800" y="871560"/>
            <a:ext cx="7500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Stanje izvajanja tehnične pomoči na dan 30.04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57360" y="545796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34ea2"/>
                </a:solidFill>
                <a:latin typeface="Arial"/>
              </a:rPr>
              <a:t>Do konca meseca marca 2014 je realizacija tehnične pomoči znašala približno 68,05 mio EUR ali 65,2 % vseh razpoložljivih sredstev tehnične pomoči. Do konca finančnega obdobja 2007-2013 (31.12.2015) je potrebno porabiti še 36.3 mio EUR ali 34,8 % razpoložljivih sredstev tehnične pomoč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Grafikon 6" descr=""/>
          <p:cNvPicPr/>
          <p:nvPr/>
        </p:nvPicPr>
        <p:blipFill>
          <a:blip r:embed="rId1"/>
          <a:stretch/>
        </p:blipFill>
        <p:spPr>
          <a:xfrm>
            <a:off x="542880" y="1158840"/>
            <a:ext cx="8352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Ukrepi na področju izvajanja tehnične pomoč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1281240"/>
            <a:ext cx="813744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Vlada RS je ob koncu leta 2013 sprejela akcijski načrt za pospešitev črpanja evropskih kohezijskih sredstev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Ukrepe za pospešitev izvajanje tehnične pomoči so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dodatno zaposlovanje iz sredstev tehnične pomoči – do sedaj smo jih na OU dodatno potrdili 58 zaposlitev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dodatna usposabljanja/izobraževanja, ki jih organizira organ upravljanja - do sedaj smo jih na OU izvedli 21 usposabljanja/izobraževanja  za različna področja (učinkovita priprava ZZP-jev, upravljanje in vodenje projektov v državni upravi, javna naročila, državne pomoči, računovodenje, usposabljanje na področju gradbenih investicij,…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100" spc="-1" strike="noStrike">
                <a:solidFill>
                  <a:srgbClr val="034ea2"/>
                </a:solidFill>
                <a:latin typeface="Arial"/>
              </a:rPr>
              <a:t>pripravljalne aktivnosti, ki se nanašajo na finančno obdobje 2014-2020 (vrednotena, študije, analize,…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rcRect l="14513" t="0" r="14402" b="10723"/>
          <a:stretch/>
        </p:blipFill>
        <p:spPr>
          <a:xfrm>
            <a:off x="1666800" y="2301840"/>
            <a:ext cx="4608720" cy="2651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943280" y="4952880"/>
            <a:ext cx="586872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77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Načrti </a:t>
            </a:r>
            <a:r>
              <a:rPr b="1" lang="it-IT" sz="2000" spc="-1" strike="noStrike">
                <a:solidFill>
                  <a:srgbClr val="034ea2"/>
                </a:solidFill>
                <a:latin typeface="Arial"/>
              </a:rPr>
              <a:t>za leti 2014 in 2015</a:t>
            </a:r>
            <a:r>
              <a:rPr b="1" lang="sl-SI" sz="2000" spc="-1" strike="noStrike">
                <a:solidFill>
                  <a:srgbClr val="034ea2"/>
                </a:solidFill>
                <a:latin typeface="Arial"/>
              </a:rPr>
              <a:t> v okviru tehnične pomoči s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3640" y="1641600"/>
            <a:ext cx="813564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dodatna izobraževanja/usposabljanja za konkretne ciljne skupine (npr. ločeno kontrolorji, skrbniki pogodb, upravičenci, ipd.) na konkretnih področjih (javno naročanje, računovodstvo in knjigovodstvo, državne pomoči, ipd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pospešitev aktivnosti na področju vrednotenja in študij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pospešiti aktivnosti , ki se nanašajo na področje obveščanja javnost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kadrovska okrepitev na področju kjer so potrebe (npr. kontrolorj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200" spc="-1" strike="noStrike">
                <a:solidFill>
                  <a:srgbClr val="034ea2"/>
                </a:solidFill>
                <a:latin typeface="Arial"/>
              </a:rPr>
              <a:t>financiranje pripravljalnih aktivnosti za 2014-2020 (npr. predhodne pogojenost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0T10:14:35Z</dcterms:modified>
  <cp:revision>216</cp:revision>
  <dc:subject/>
  <dc:title>Naslov</dc:title>
</cp:coreProperties>
</file>